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  <p:sldId id="279" r:id="rId48"/>
    <p:sldId id="280" r:id="rId49"/>
    <p:sldId id="281" r:id="rId50"/>
    <p:sldId id="282" r:id="rId51"/>
    <p:sldId id="283" r:id="rId52"/>
    <p:sldId id="284" r:id="rId53"/>
    <p:sldId id="285" r:id="rId54"/>
    <p:sldId id="286" r:id="rId55"/>
    <p:sldId id="287" r:id="rId56"/>
    <p:sldId id="288" r:id="rId57"/>
    <p:sldId id="289" r:id="rId58"/>
    <p:sldId id="290" r:id="rId5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slide" Target="slides/slide24.xml"/><Relationship Id="rId49" Type="http://schemas.openxmlformats.org/officeDocument/2006/relationships/slide" Target="slides/slide25.xml"/><Relationship Id="rId50" Type="http://schemas.openxmlformats.org/officeDocument/2006/relationships/slide" Target="slides/slide26.xml"/><Relationship Id="rId51" Type="http://schemas.openxmlformats.org/officeDocument/2006/relationships/slide" Target="slides/slide27.xml"/><Relationship Id="rId52" Type="http://schemas.openxmlformats.org/officeDocument/2006/relationships/slide" Target="slides/slide28.xml"/><Relationship Id="rId53" Type="http://schemas.openxmlformats.org/officeDocument/2006/relationships/slide" Target="slides/slide29.xml"/><Relationship Id="rId54" Type="http://schemas.openxmlformats.org/officeDocument/2006/relationships/slide" Target="slides/slide30.xml"/><Relationship Id="rId55" Type="http://schemas.openxmlformats.org/officeDocument/2006/relationships/slide" Target="slides/slide31.xml"/><Relationship Id="rId56" Type="http://schemas.openxmlformats.org/officeDocument/2006/relationships/slide" Target="slides/slide32.xml"/><Relationship Id="rId57" Type="http://schemas.openxmlformats.org/officeDocument/2006/relationships/slide" Target="slides/slide33.xml"/><Relationship Id="rId58" Type="http://schemas.openxmlformats.org/officeDocument/2006/relationships/slide" Target="slides/slide34.xml"/><Relationship Id="rId59" Type="http://schemas.openxmlformats.org/officeDocument/2006/relationships/slide" Target="slides/slide35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85AA-DAF7-4FCC-A9DC-13BDC8711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FBC5-10D5-4F42-AD90-E359FE4A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85E24-4C9D-477F-ADF1-5367614E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A6EE6-5C34-4D91-AC38-0A284C43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54A28-086F-40E6-8978-FA91A927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66D22-2446-4BF8-B230-AAADDDA2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98E55-CFE4-4B8E-9762-973E491F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3348C-E0ED-4A8F-90A0-40074664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E3336-7620-44D2-BDAB-B490A31A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5C0B7-C47D-4B76-91A5-A4E1B6601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3A24D-4131-4263-8D07-4A4626DE4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1AB94-2FB5-43BB-B496-09B6548E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A76F-3295-4796-9272-F9DC1963B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3150C-125D-4827-AB29-F7E30FE5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EC6FD-C044-4495-AFC5-D051190F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22940-62C6-4BC5-B646-1C8CA757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91343-09FE-45B3-86F4-6D629D1E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AF089-7131-4D61-A328-21300745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1CBFD-D0E9-4820-B207-DD7DB4EB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59517-9A74-4D41-82B3-4239F1DC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F23A1-2EAD-4829-A047-EA1FCDA6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AE1B4-42E7-47C9-86A8-FD229E29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46C7E-9E46-45B5-ACF2-63534E381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66B6-9FDC-421F-95A6-0FDF424AB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124DC-0D5D-42A8-87D9-3CE9BBECE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8275A-43A3-4F65-A30C-8D3E1E9E8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A1F482-DABE-4092-823E-44C07A67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1AF8D-4DBC-4786-8DCD-F0BAC326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4622A9-01BE-4285-A516-6C165B45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6013A2-943A-48FD-8942-5B9C8694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7B214-085D-4DF2-8EEB-B942170D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6FC38-E7D1-4252-A27A-1206C055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429D27-D8B1-4F8B-8259-CA4F6088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D6329-D184-478E-AF0D-E1CEB06A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A979E-DE35-4E6C-8A30-FB716397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2E888-BB2F-4074-A853-73F269BC7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445F5-245B-459E-87E2-EA5BF8E7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BBF5C4-08A9-4EDE-BA95-BEC0BCACA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293B6-DFA6-4F4A-803A-90009137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2A1A1-D2A9-4B31-A7DD-9D7293EF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803E9C-CEB9-4031-9A14-E1BC24C3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2B1EB-112C-4A24-823E-D5C810B5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B40FE-01DD-433E-BC92-1F84FB65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C4C873-7F65-4B6D-8D73-1F7DA03C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D404A9-71EE-4A53-8B59-33552BA2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1FFD1-3ACC-40F7-BE94-70A73090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E9EA23-125F-4CAA-95EF-9940CCE4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0B8D2-B123-4DF6-AE3C-301C3AE0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AD59B4-E4B7-429F-AA27-7A602F3F8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1A201-2B7A-4625-866D-0650FDCF0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ADD7A-DDCF-493A-A177-35FE6FF8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ABFAD-824A-4A5E-92F6-811E4D2C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1920F-C0B4-459F-B03F-9B440F9E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F2592-BB8B-4F75-BD64-03F3D41F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76023-B86F-42FB-A64D-A8EA4515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35298-0532-460A-9760-4CD7E88A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6D7CE-F867-42AF-80AB-A1288D9E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F9ADE-C3CB-45D4-826F-B0DFCDBC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08EC7-D2A5-4B22-93EF-F947BFF2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49DF9-F821-47CC-BF89-1917BF8B7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5C09E-4A7C-4840-A96E-D87E9695A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A5D90-1B5A-4473-A6B2-63DE9A3D5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BE2F27-83D1-4888-9167-12BEC8DC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2E6C9F-9461-47D8-95F8-81AE26CD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38DF54-BF77-41C9-8785-9A854B3D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079D2A-CD39-438D-8EFE-081AF61D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8EA96F-8B79-482A-9441-46D6BEF9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A5E6C-2DD5-4E60-BD8B-EDA64175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C7FC71-3260-42F9-B7CE-9B845607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EAD105-314B-4A9B-8740-9D39415B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679DB2-6CA6-4E2B-8B5F-F9563441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63E69B-84E4-4321-AC89-548000C24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268F47-42CF-4E2F-9236-2FD9CAE25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61B2D4-4A38-4266-AE91-CD090344D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61FE33-A356-4A23-845D-BDCE90F7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0C6A6F-70B6-4B50-898B-F81A0132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CCD30A-D9AF-4021-8D50-92E099F4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5326F9-8647-49F7-AFBF-8B05CDB8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8C76EF-A59C-45A8-B948-95893F7F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94F530-63A4-4A18-9BCC-D49FBB8D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FFAC8D-01BB-4D5D-9ED9-BFEB9316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5E62E7-4146-4CE6-AB4B-31483552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32AE34-A565-45D7-8356-127F09BC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ADB360-44CE-49CA-A45B-63BC56DB5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679F78-A9E3-44B1-A37A-A6DCF59F2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28E17A-45F7-49A7-ACE4-AB3ACB873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AD793C-4965-47A3-B5B4-755F5450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ED1CCC-0409-489D-A688-831DA795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1E6190-2542-44DD-89B3-4A138A56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7888CF-42EA-462D-BD39-63B0EB0F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F99D0C-81C9-4CF0-A3A4-C34BC845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5CDE91-6A9B-42F3-8A88-0C8A4087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5CA513-7B67-461A-A561-FB74B97F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4D6B06-6769-4CEB-8FF2-2B2B8D64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0870A1-8FF1-48A3-A2AD-A1F5C848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B25EFE-723C-4A73-813B-BF6F3877B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1BD98F-5047-4824-9E58-0101F07A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CE0A35-565C-4D80-80AA-C027D04A1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60302C-77DB-4147-BC32-70E32E3A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92EB33-0D96-4B5B-B594-6FF42690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A1718E-8AD6-4353-85B3-F778CD8F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1592DC-F88F-46C1-ABF6-4E379DC8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31678F-19D8-40FC-8D55-81804877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230C05-0C9F-4F77-80C3-AA44D9CE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EE7D-9D5B-4A33-B505-ADD54602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F8486A-A85D-4F85-84C2-3FDE975C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34F249-9B20-419E-B4E8-1BDB1477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4A27FA-6620-438D-8F1D-8DBD658C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2B7F2B-BFBC-46C6-8534-B1CB16085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0D9507-E112-4BD4-83C3-ABA7122A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17E171-3625-403A-AC4E-89B0D9EC6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059425-6E00-48A3-B8EC-BEFD048C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85E67E-2595-41A7-985F-DEA29584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825C6E-00B5-41C8-9269-467391FF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866905-592F-4CDB-BAD6-A40C5F97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5171F6-4DD4-448F-BF1C-131F51DE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7C8ACC-DE79-4134-A801-9558B19F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07338B-7797-4D48-A38A-4FC2C713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9AD951-AE04-4CD5-B47C-FDB7A224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C5AE30-5EF1-43AD-A938-9038FC7A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B8AD9A-058A-4519-848E-1E9FC9324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ECA504-EAE5-4A3E-9415-12F99CA21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55F811-86D3-4DF2-ABC4-A2620E711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49F4F7-D17F-4488-9ABC-C8FD66BA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D5C8D1-3F59-4274-A402-7B1DD008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AC97B6-240D-436A-A898-A84C624A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649CF7-8B69-42FE-B7D7-90B6E9B2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32CBE1-BF53-4DDA-9BFE-6C1BE46A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555ED2-2D74-4C42-AF11-087503C4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81813D-2E4C-416E-8EE3-EAB83AAA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D4DC4F-BF37-4FBE-80AF-9C864DE4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FF0F2A-475B-442B-9D53-9B3BA859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407BB2-9243-4247-96CD-7D94225D4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F43601-142D-4AB0-8EB7-4B7A691CB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B9A22D-CFB6-4EE3-B268-5949F8B3B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557515-4F70-40BC-A767-90CECDD3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009EE5-3C1C-48CA-A379-B7123723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0F06A2-03CA-4125-8828-00F944AA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9C79C5-69D1-44A9-A68C-741875CC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CAAA5A-19E5-46CB-BCC4-DCC98366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0BE6F2-B244-41A1-8471-F06DA601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49D932-FFD0-4880-9237-51486541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6D4BD2-B498-4276-AE9F-60CB1594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8CE5B4-C4DB-487B-A9B0-C82A1469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23D024-FAC9-40E5-B777-692A93C6D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0F1CCA-C80C-4016-8BB8-0519E05B7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A5EE84-67F6-4662-9127-632447477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BE756C-B52B-43F7-8229-3D68CA23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E54F62-B496-4D0E-A6DE-17DE1BD5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5B4C1F-CE2D-4A5E-9A45-9BB00944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6D8467-408B-43F9-86D5-C0B23CF5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5A6A4A-884D-4D1E-BA5C-4188ABC0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487369-6D74-48B7-9645-03DC788E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F527C4-E9D1-4077-B752-43364D26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5AA766-0852-4FC1-9326-9FEC4A71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8438D1-A5A5-487F-A35A-C4B3AFC0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6FA9CC-190C-4029-8F94-94EFFF9DD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8B77A8-5907-431B-90D7-D5983F2A1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844133-6830-401A-A759-54A55A672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008A32-88A1-48C8-8E8A-E81BCCB8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064964-F510-42C7-90D2-FAC81C2B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AD1AFC-1A51-4FA8-BBCB-9A5ADD8A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41D543-D940-4662-9ADD-720D0FDC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FBB9BC-02F9-4647-AA0E-A5629B48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EF808C-1960-49F0-BACE-E157B95D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15EF00-CB20-40D2-9552-94A7CCB0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380509-B65C-4356-9C08-40F12A1E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4A6378-3B57-4748-BC6A-E7F2E126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01D3D1-44DD-41D4-B792-93CE0916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ADA9DE-D7D0-4F21-9876-395AECD4B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F409CC-7BBA-4754-9BAE-4C7C7AA02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4B0548-896D-412F-97EE-5B583F88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7B588C-2F5F-435C-8D7F-348B2D49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475478-DA00-4F03-A147-5E9DCA5E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9506B0-2946-443B-BC73-342DF44E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AA9BBF-CF2E-4912-8675-3A0BBFB8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95704C-43E8-45D0-B419-24A32264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F3EC34-2700-40EA-A1B4-F229BF55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BA588C-3379-4D6F-98EC-34EB4B0F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C648B6-D187-4B2A-BDA6-F270289F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B225F1-62B3-4433-9873-7CC8F0D09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78CD68-8DF2-4254-BF1B-572347CB2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1A58-7683-4728-ABE2-66D9D837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A2AB-7E00-457B-8394-A17A6D25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89F9-75C0-4682-B093-A4A8BADA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103A-C308-498D-B4AB-53E205D9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4D23-3755-474C-BFBE-9DB8B9C9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12ED-F13F-4D86-9029-C69FB74A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85CD-D826-4174-8634-2BD66111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6291-91AF-4462-9778-C3A14C45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59F4-C2D6-4938-82DE-8118C202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DD09-1EB0-4F49-BE77-E05F296A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6561-DECC-4F40-A4E3-8B06CB48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71C2-D9DC-46D5-9F43-224C8CEA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127B-6961-476F-BBA6-06D220A97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2B96-E77C-446E-8DB9-B472278B2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0E197-6DDB-49C3-B0A1-A73E5A9E5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44AD-B3DB-4DA8-A17D-DC69DD89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98F48-8148-422E-BA0B-0CA2FDAA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CD128-4052-4FB9-A076-16297476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57135-33A5-40C2-8C9A-9FEE6F49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389D6-88BF-42B3-8E95-3C905FCC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7B8AE-97A9-49FF-B3C8-25AB8C25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787BA-E494-470F-926F-24E395FA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363EB-10B7-4D3E-9EE4-72E334E3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C3B6B-0CED-4F1D-A62B-556568FE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D2B33-BA36-4527-9AAE-DCBF97C3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11473-F468-49FA-A291-601DC205F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BEAF-4E5B-49AE-A3A2-EFAF6FC7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1AB26-8F27-4438-8C73-366D231D3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3EF92-FC8A-4107-A27C-715790263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FA1B7-0278-47D0-A6EF-32558312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5D183-C42C-4AB1-9E5C-8413F05E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2AB0D-9470-473A-9B43-B3ADBD95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92C75-8CC2-478C-B8BC-687A4BB4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46A8C-8A10-416C-8121-54D7F003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C47D8-6597-4AAC-86BA-C90884CA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4773C-6624-4161-BB68-BB5199FD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54AB5-7BAE-4CFE-AA87-C018FDC7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C0D5-658B-4838-A701-65DCAE6D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22CC7-B689-44C8-88D2-C7E4FFDF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1F3B5-36A6-4CC6-831C-85BF63FCA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E39F3-7E33-4754-9C2D-CA3E658BD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7A401-0B0F-436B-826B-471CE065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AB208-DD4E-44A9-8428-56C00389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4D9DD-8BE3-4934-BF0A-F8FF24C2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B97D9-4DA0-4097-A26F-DE1BC090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0AB2F-1735-49B8-90FA-04AB4025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88A7B-92DA-48C9-B110-6BC612B6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25ACD-9446-4C9F-9C03-C3389AE0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4E07-8AFF-4019-B292-80FA983B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0CB52-7516-49BD-BBD8-BCE807FB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85B17-C7CE-4BC5-8835-F216FEF6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DA8F0-6785-4BB2-A352-51D5277D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A0631-0D23-4415-A79A-29DEA18A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2070E-A0D7-4B98-A928-7998CEA78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1CA4C-D1B0-487D-B7EF-8310587BF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D6C9C-01D0-46D9-89F0-4C13E3AD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1C34C-10CD-4D41-80F3-9BDB0FE0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5D0C4-D5D6-4F3F-B601-A44E8A14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80BD8-6F6B-41A9-AFDC-2DC8E1AB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43A8-1C7C-46CB-8E28-3312093F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2D6E3-486B-4899-A05D-7E5409C3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C34DF-05E3-4A15-8EC9-08BC261B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1F25E-74E2-4F8F-AFF6-87CA7E00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B2FAC-D646-4675-8778-CC9ACF67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24657-D697-46EA-93FB-8D6E6BCC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6BD9D-DF98-4CB0-A6E9-C5705EFEB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9FEA7-C820-47F0-9DEE-C6A3B580C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CCFF5-AA00-4A95-AF5E-39C012C75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633BF-72A1-45B6-ABAA-8E319317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80919-AE27-4BEC-AF7C-B9E6073A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Click to edit the title text format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B652-D7D9-4E4B-BD26-3DA95D22B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iRespond Question Master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7A1D-D897-40D4-AE55-DC041DDADD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iRespond Question Master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EAF0-A0E8-4113-B223-7A5934ECD3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iRespond Question Master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3EDC-8DB4-424E-8AFB-A7154E1A90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iRespond Question Master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320A-ED4B-414A-8144-BFEC16D096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625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628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634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638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644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651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PlaceHolder 1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180C-96F2-4F78-BF1E-F6F621ED7E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696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699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705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709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715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722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PlaceHolder 1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B31E-D31B-43CF-8DC9-FA7D1C3DBB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6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767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9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770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776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780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786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793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PlaceHolder 1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B0A0-4289-4EE8-AEE0-5BF2369EAB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7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38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841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847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851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857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864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PlaceHolder 1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BCCD-423B-4B52-9D51-CA65E2C448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909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12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18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922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928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935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PlaceHolder 1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474D-C351-459E-9EB6-13BEA7EC6D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980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83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89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2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993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8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999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5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006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0" name="PlaceHolder 1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C171-D2C2-4A3E-8BFB-2572CC893E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iRespond Question Master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0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051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3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054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9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060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3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64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70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6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077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1" name="PlaceHolder 1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4AA4-D99C-415C-914D-334084C325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1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122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125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0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131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4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35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0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41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7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48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PlaceHolder 1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128A-A88B-4111-8EF4-8E8EC6967C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2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193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5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196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1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202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206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1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212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219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3" name="PlaceHolder 1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9B0E-80F6-45E2-BE06-ABCBAFFFC3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3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264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6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267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2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273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277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2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283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9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290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4" name="PlaceHolder 1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E247-564E-4587-A223-227ED9F6FD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7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0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6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0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6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3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iRespond Question Master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5E15-68B4-47B3-BC75-19E5283ECB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iRespond Question Master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4A66-B716-40C3-AC98-1B773E361C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iRespond Question Master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0172-3D98-4BC6-A62D-299601B4C2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iRespond Question Master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A6B8-A35D-4436-9B7B-6F60839C20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iRespond Question Master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CF8D-450B-4DBE-8217-7903014463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iRespond Question Master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1B8F-A0EA-4823-B716-757F16C9D5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WordArt 4"/>
          <p:cNvSpPr txBox="1"/>
          <p:nvPr/>
        </p:nvSpPr>
        <p:spPr>
          <a:xfrm>
            <a:off x="1130400" y="2286000"/>
            <a:ext cx="6946920" cy="18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hort Stori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Characterization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Direct Characterization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-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Writer tells the reader directly what kind of person the character is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Indirect Characterization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-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Reader has to use his or her own judgement to identify personality traits of a character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Comic Sans MS"/>
              </a:rPr>
              <a:t>Character</a:t>
            </a:r>
            <a:br>
              <a:rPr sz="3800"/>
            </a:br>
            <a:r>
              <a:rPr b="1" lang="en-US" sz="3800" spc="-1" strike="noStrike">
                <a:solidFill>
                  <a:srgbClr val="000099"/>
                </a:solidFill>
                <a:latin typeface="Comic Sans MS"/>
              </a:rPr>
              <a:t>Indirect Characterization</a:t>
            </a:r>
            <a:endParaRPr b="1" lang="en-US" sz="3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There are five methods for revealing character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Appearanc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Speech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Thought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Action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Other Characters’ feeling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Characterization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Static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–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Character does not change throughout the story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Dynamic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–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Character develops and grows over the course of the story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Characterization 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Flat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– </a:t>
            </a: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Shows only one personality trait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Round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– </a:t>
            </a: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Many different personality traits (good &amp; bad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Protagonist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– </a:t>
            </a: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Main character of a literary work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Antagonist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– </a:t>
            </a: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Character or force in conflict with the protagonist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Characterization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Motivation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–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Reason that explains or partially explains why a character thinks, feels, behaves or acts in a certain way.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Point of View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The vantage point from which the author has chosen to tell the story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First Person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One of the characters is actually telling the story, using the pronoun “I.”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Third Person Limited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Narrator sees the world through one character’s eyes and reveals only that character’s thoughts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Third Person Omniscient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“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All Knowing”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Voice outside the story that tells readers what any character thinks and feels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Point of View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The narrator is not always the author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Comic Sans MS"/>
              </a:rPr>
              <a:t>Elements of A Short Story</a:t>
            </a:r>
            <a:endParaRPr b="1" lang="en-US" sz="4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38102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Plot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Character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Setting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343040" y="1828440"/>
            <a:ext cx="44197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Theme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Point of View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Setting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The time and place of a story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or play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Setting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Time and place of action in a literary work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In some stories, setting provides the conflict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Places where people live and make their homes can reveal a great deal about their characters.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Setting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One purpose of setting is to provide a background – a place for the characters to live and act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Setting can also provide atmosphere or mood - it affects the way a reader feels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One of the oldest story plots in the world is the one in which a person fights against something in the physical world - a drought, a horde of ants, the heat of the desert, etc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Describing the Setting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In what kind of place does the story take place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What is the season? What is the climate? What is the time of day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Are the characters in conflict with the setting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Describing the Setting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Does the setting help to understand the characters’ personalities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What kind of atmosphere does the setting create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Theme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Central idea of a work of literature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Theme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A theme makes some revelation about a subject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The subject of the story is NOT THE SAME as the theme of the story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The subject is simply the topic of the story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Theme is not “love.”  Ask yourself…what about “love”?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Theme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A theme is usually not stated directly in the story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Finding a Theme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74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Comic Sans MS"/>
              </a:rPr>
              <a:t>Does the title signify something important about the story?</a:t>
            </a:r>
            <a:endParaRPr b="0" lang="en-US" sz="31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-329040">
              <a:spcBef>
                <a:spcPts val="774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Comic Sans MS"/>
              </a:rPr>
              <a:t>Does the main character change in the course of the story? Does he or she realize something he or she didn’t know before?</a:t>
            </a:r>
            <a:endParaRPr b="0" lang="en-US" sz="31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-329040">
              <a:spcBef>
                <a:spcPts val="774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Comic Sans MS"/>
              </a:rPr>
              <a:t>Are there any important statements about life or people made in the story - either by the narrator or the characters?</a:t>
            </a:r>
            <a:endParaRPr b="0" lang="en-US" sz="31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Irony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A contrast between expectation and reality.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Between what is said and what is   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really meant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Between what is expected to happen   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and what really happens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Between what appears to be true   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and what is really true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Plot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The sequence of events in a literary work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Types of Irony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Verbal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-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a writer or speaker says one thing but means another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Situational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-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what we expect to happen is different than what actually happens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Dramatic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-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Audience or reader knows what is happening but the characters do not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Other Terms to Know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Mood – (Atmosphere) Feeling created in the reader by a literary work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Ton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–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The writer’s attitude toward his or her audience and subject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Other Terms to Know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Foreshadowing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–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Clues to suggest events that have not happened yet in the story; creates suspense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Suspens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-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The uncertain feeling about what is going to happen next in a story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Other Terms to Know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Allusion – References in a piece of writing that refer to the Bible, a time in history or another work of literature or art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Frame Story – Story within another story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Dialect – Way a character speaks (directly related to setting &amp; time period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Other Terms to Know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Symbolism - Anything that stands for or represents something else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Ex. Red rose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American flag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Conflict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3818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A struggle between opposing forces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2743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Internal – A character in conflict with himself or herself: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Fear vs. Duty, Duty vs. Pride, Training vs.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Instinct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External - A character struggles against an outside force :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Man vs. Man, Man vs. Nature, Man vs.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  Society,Man vs. Fate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Comic Sans MS"/>
              </a:rPr>
              <a:t>Bare Bones of A Plot</a:t>
            </a:r>
            <a:endParaRPr b="1" lang="en-US" sz="4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Plot is built on five main parts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- </a:t>
            </a: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Exposition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Rising Action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Climax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Falling Action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Resolution (Denouement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99"/>
                </a:solidFill>
                <a:latin typeface="Comic Sans MS"/>
              </a:rPr>
              <a:t>Plot Line</a:t>
            </a:r>
            <a:endParaRPr b="1" lang="en-US" sz="5000" spc="-1" strike="noStrike">
              <a:solidFill>
                <a:srgbClr val="000099"/>
              </a:solidFill>
              <a:latin typeface="Comic Sans MS"/>
            </a:endParaRPr>
          </a:p>
        </p:txBody>
      </p:sp>
      <p:grpSp>
        <p:nvGrpSpPr>
          <p:cNvPr id="1342" name="Group 24"/>
          <p:cNvGrpSpPr/>
          <p:nvPr/>
        </p:nvGrpSpPr>
        <p:grpSpPr>
          <a:xfrm>
            <a:off x="457200" y="1447920"/>
            <a:ext cx="8305920" cy="5351760"/>
            <a:chOff x="457200" y="1447920"/>
            <a:chExt cx="8305920" cy="5351760"/>
          </a:xfrm>
        </p:grpSpPr>
        <p:sp>
          <p:nvSpPr>
            <p:cNvPr id="1343" name="Text Box 10"/>
            <p:cNvSpPr/>
            <p:nvPr/>
          </p:nvSpPr>
          <p:spPr>
            <a:xfrm>
              <a:off x="457200" y="5029200"/>
              <a:ext cx="2362320" cy="11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99"/>
                  </a:solidFill>
                  <a:latin typeface="Comic Sans MS"/>
                </a:rPr>
                <a:t>Exposition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4" name="Group 23"/>
            <p:cNvGrpSpPr/>
            <p:nvPr/>
          </p:nvGrpSpPr>
          <p:grpSpPr>
            <a:xfrm>
              <a:off x="457200" y="1447920"/>
              <a:ext cx="8305920" cy="5351760"/>
              <a:chOff x="457200" y="1447920"/>
              <a:chExt cx="8305920" cy="5351760"/>
            </a:xfrm>
          </p:grpSpPr>
          <p:sp>
            <p:nvSpPr>
              <p:cNvPr id="1345" name="Line 4"/>
              <p:cNvSpPr/>
              <p:nvPr/>
            </p:nvSpPr>
            <p:spPr>
              <a:xfrm flipV="1">
                <a:off x="1600200" y="4251240"/>
                <a:ext cx="2514600" cy="15840"/>
              </a:xfrm>
              <a:prstGeom prst="line">
                <a:avLst/>
              </a:prstGeom>
              <a:ln w="7632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Line 5"/>
              <p:cNvSpPr/>
              <p:nvPr/>
            </p:nvSpPr>
            <p:spPr>
              <a:xfrm flipV="1">
                <a:off x="4114800" y="3032280"/>
                <a:ext cx="1219320" cy="1218960"/>
              </a:xfrm>
              <a:prstGeom prst="line">
                <a:avLst/>
              </a:prstGeom>
              <a:ln w="7632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Line 6"/>
              <p:cNvSpPr/>
              <p:nvPr/>
            </p:nvSpPr>
            <p:spPr>
              <a:xfrm>
                <a:off x="5334120" y="3032280"/>
                <a:ext cx="609480" cy="1828800"/>
              </a:xfrm>
              <a:prstGeom prst="line">
                <a:avLst/>
              </a:prstGeom>
              <a:ln w="7632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Line 7"/>
              <p:cNvSpPr/>
              <p:nvPr/>
            </p:nvSpPr>
            <p:spPr>
              <a:xfrm>
                <a:off x="5943600" y="4861080"/>
                <a:ext cx="2209680" cy="0"/>
              </a:xfrm>
              <a:prstGeom prst="line">
                <a:avLst/>
              </a:prstGeom>
              <a:ln w="7632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Text Box 11"/>
              <p:cNvSpPr/>
              <p:nvPr/>
            </p:nvSpPr>
            <p:spPr>
              <a:xfrm>
                <a:off x="457200" y="2743200"/>
                <a:ext cx="3124080" cy="174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500" spc="-1" strike="noStrike">
                    <a:solidFill>
                      <a:srgbClr val="000099"/>
                    </a:solidFill>
                    <a:latin typeface="Comic Sans MS"/>
                  </a:rPr>
                  <a:t>Complications</a:t>
                </a:r>
                <a:endParaRPr b="0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99"/>
                    </a:solidFill>
                    <a:latin typeface="Comic Sans MS"/>
                  </a:rPr>
                  <a:t>(Rising Action)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AutoShape 12"/>
              <p:cNvSpPr/>
              <p:nvPr/>
            </p:nvSpPr>
            <p:spPr>
              <a:xfrm>
                <a:off x="1371600" y="4403880"/>
                <a:ext cx="457200" cy="701640"/>
              </a:xfrm>
              <a:prstGeom prst="upArrow">
                <a:avLst>
                  <a:gd name="adj1" fmla="val 50000"/>
                  <a:gd name="adj2" fmla="val 38366"/>
                </a:avLst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AutoShape 13"/>
              <p:cNvSpPr/>
              <p:nvPr/>
            </p:nvSpPr>
            <p:spPr>
              <a:xfrm>
                <a:off x="3505320" y="3260880"/>
                <a:ext cx="990360" cy="457200"/>
              </a:xfrm>
              <a:prstGeom prst="rightArrow">
                <a:avLst>
                  <a:gd name="adj1" fmla="val 50000"/>
                  <a:gd name="adj2" fmla="val 54154"/>
                </a:avLst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AutoShape 14"/>
              <p:cNvSpPr/>
              <p:nvPr/>
            </p:nvSpPr>
            <p:spPr>
              <a:xfrm>
                <a:off x="5105520" y="2209680"/>
                <a:ext cx="380880" cy="609840"/>
              </a:xfrm>
              <a:prstGeom prst="downArrow">
                <a:avLst>
                  <a:gd name="adj1" fmla="val 50000"/>
                  <a:gd name="adj2" fmla="val 40028"/>
                </a:avLst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Text Box 15"/>
              <p:cNvSpPr/>
              <p:nvPr/>
            </p:nvSpPr>
            <p:spPr>
              <a:xfrm>
                <a:off x="3809880" y="1447920"/>
                <a:ext cx="2971800" cy="62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500" spc="-1" strike="noStrike">
                    <a:solidFill>
                      <a:srgbClr val="000099"/>
                    </a:solidFill>
                    <a:latin typeface="Comic Sans MS"/>
                  </a:rPr>
                  <a:t>Climax</a:t>
                </a:r>
                <a:endParaRPr b="0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AutoShape 16"/>
              <p:cNvSpPr/>
              <p:nvPr/>
            </p:nvSpPr>
            <p:spPr>
              <a:xfrm>
                <a:off x="5867280" y="3733920"/>
                <a:ext cx="914400" cy="457200"/>
              </a:xfrm>
              <a:prstGeom prst="leftArrow">
                <a:avLst>
                  <a:gd name="adj1" fmla="val 50000"/>
                  <a:gd name="adj2" fmla="val 50000"/>
                </a:avLst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Text Box 17"/>
              <p:cNvSpPr/>
              <p:nvPr/>
            </p:nvSpPr>
            <p:spPr>
              <a:xfrm>
                <a:off x="6400800" y="3336840"/>
                <a:ext cx="2362320" cy="11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500" spc="-1" strike="noStrike">
                    <a:solidFill>
                      <a:srgbClr val="000099"/>
                    </a:solidFill>
                    <a:latin typeface="Comic Sans MS"/>
                  </a:rPr>
                  <a:t>Falling Action</a:t>
                </a:r>
                <a:endParaRPr b="0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Text Box 20"/>
              <p:cNvSpPr/>
              <p:nvPr/>
            </p:nvSpPr>
            <p:spPr>
              <a:xfrm>
                <a:off x="6248520" y="5638680"/>
                <a:ext cx="2361960" cy="11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500" spc="-1" strike="noStrike">
                    <a:solidFill>
                      <a:srgbClr val="000099"/>
                    </a:solidFill>
                    <a:latin typeface="Comic Sans MS"/>
                  </a:rPr>
                  <a:t>Resolution</a:t>
                </a:r>
                <a:endParaRPr b="0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AutoShape 21"/>
              <p:cNvSpPr/>
              <p:nvPr/>
            </p:nvSpPr>
            <p:spPr>
              <a:xfrm>
                <a:off x="7848720" y="4952880"/>
                <a:ext cx="457200" cy="762120"/>
              </a:xfrm>
              <a:prstGeom prst="upArrow">
                <a:avLst>
                  <a:gd name="adj1" fmla="val 50000"/>
                  <a:gd name="adj2" fmla="val 41673"/>
                </a:avLst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Plot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Exposition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– </a:t>
            </a: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introduces the setting, the characters, the basic situation; introduction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Rising Action- central conflict introduced; all events leading up to the climax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Climax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– </a:t>
            </a: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conflict reaches a high point of interest or suspens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Plot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Falling Action - Conflict begin to resolve; story tapers off; events that lead up to the resolution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Resolution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-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Occurs at the very end of the story; conflicts are resolved. (Also called the denouement.)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Character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A person, animal, natural force or object in a story or play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Characterization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he process of revealing the personality of a character is called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haracterization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8:27:26Z</dcterms:created>
  <dc:creator>fchs writing lab</dc:creator>
  <dc:description/>
  <dc:language>en-US</dc:language>
  <cp:lastModifiedBy>install</cp:lastModifiedBy>
  <cp:lastPrinted>2002-11-19T20:43:38Z</cp:lastPrinted>
  <dcterms:modified xsi:type="dcterms:W3CDTF">2010-08-23T18:46:19Z</dcterms:modified>
  <cp:revision>7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owPercent">
    <vt:bool>1</vt:bool>
  </property>
  <property fmtid="{D5CDD505-2E9C-101B-9397-08002B2CF9AE}" pid="3" name="ShowTimer">
    <vt:bool>1</vt:bool>
  </property>
</Properties>
</file>